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4809-C4FA-4E2F-B3ED-A4459A3A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B96-CF70-4F95-956A-75910C27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8D2-3F05-480C-8599-1023CEA5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7FD4-ECF7-4F57-AED8-11C852A1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2F98-052E-4A72-A32B-47E1D6C2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FA6-063F-48E8-B269-9D81412C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C61C-215C-4A4A-9290-C0B1B435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113D-BD53-4910-BF56-72E929D1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661F-D1B8-42D3-BA6E-7FEBC02C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2E5-9421-4E0D-8450-E883F460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E8C-B0A5-4871-990F-560830AC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D8E2-FF85-4FFF-84D3-CA232340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868C-B398-42AD-82D2-2980E35DE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38088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ur Scrapbook of the Trans-Siberian Railroad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447920" y="2209680"/>
            <a:ext cx="59436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317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76800" cy="3193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00400" y="2209680"/>
            <a:ext cx="257328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410080" y="4092480"/>
            <a:ext cx="3733920" cy="2765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3932280"/>
            <a:ext cx="3886200" cy="292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971800" y="22860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Mosco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4560" cy="434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51640" y="0"/>
            <a:ext cx="2592360" cy="3962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819520" y="2514600"/>
            <a:ext cx="3352680" cy="250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295280" y="533412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oudy Stout"/>
              </a:rPr>
              <a:t>Per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oudy Stout"/>
              <a:ea typeface="Goudy Sto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62520" cy="1995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1990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819520" y="2438280"/>
            <a:ext cx="4038480" cy="3036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657600" y="609480"/>
            <a:ext cx="2819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"/>
              </a:rPr>
              <a:t>Oms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336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00600" y="3238560"/>
            <a:ext cx="4343400" cy="3619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971800" y="2743200"/>
            <a:ext cx="3657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Novosibirs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56040" cy="426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00600" y="3592440"/>
            <a:ext cx="4343400" cy="3265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809880" y="1143000"/>
            <a:ext cx="4419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oudy Stout"/>
              </a:rPr>
              <a:t>Irkutsk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oudy Stout"/>
              <a:ea typeface="Goudy Sto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95480" cy="2182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38920" y="0"/>
            <a:ext cx="2305080" cy="3581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4246560"/>
            <a:ext cx="3962520" cy="261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410080" y="4103640"/>
            <a:ext cx="3733920" cy="2754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276720" y="1981080"/>
            <a:ext cx="2657520" cy="1855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895480" y="380880"/>
            <a:ext cx="3886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ettenschweiler"/>
              </a:rPr>
              <a:t>Lake Baik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ettenschweiler"/>
              <a:ea typeface="Haettenschwei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4960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2782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200400" y="3200400"/>
            <a:ext cx="274968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2743200" y="76212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Khabarovs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2797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279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362320" y="3929040"/>
            <a:ext cx="3886200" cy="2928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590920" y="3124080"/>
            <a:ext cx="3657600" cy="838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ladivost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4:38:09Z</dcterms:created>
  <dc:creator>meganroberts</dc:creator>
  <dc:description/>
  <dc:language>en-US</dc:language>
  <cp:lastModifiedBy>meganroberts</cp:lastModifiedBy>
  <dcterms:modified xsi:type="dcterms:W3CDTF">2008-11-25T14:27:31Z</dcterms:modified>
  <cp:revision>5</cp:revision>
  <dc:subject/>
  <dc:title>Slide 1</dc:title>
</cp:coreProperties>
</file>